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C74-8D2A-4B26-943F-E793A3D3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685-8BAF-4DF5-BF6D-232DC9C4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045-B687-4B3D-8D0F-E9A0F470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91C-8863-4A14-AE16-B3D7DA98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B70-91A2-4B9F-ABEB-A403B118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9AB4-277C-40D4-B7C9-53E0D76B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F27A-E1EB-4C7E-8EDA-60260DA8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9A5-F708-447D-B04C-D9FD63B3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9DA-DD3C-4EFB-AF07-8B3092B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611-8105-4BD7-A32B-E8340B82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A69-D05D-4828-B395-D84FE60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4DB-06CA-4E8E-9BB1-F43BD0F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C5D1C-B0F0-4C5B-A8EA-7EAF3914B7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3A663-E936-41B5-BFF0-EA41278A4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"/>
          <p:cNvGrpSpPr/>
          <p:nvPr/>
        </p:nvGrpSpPr>
        <p:grpSpPr>
          <a:xfrm>
            <a:off x="272160" y="358920"/>
            <a:ext cx="6350760" cy="6151320"/>
            <a:chOff x="272160" y="358920"/>
            <a:chExt cx="6350760" cy="6151320"/>
          </a:xfrm>
        </p:grpSpPr>
        <p:pic>
          <p:nvPicPr>
            <p:cNvPr id="42" name="Picture 12" descr="rules-color-small.bmp"/>
            <p:cNvPicPr/>
            <p:nvPr/>
          </p:nvPicPr>
          <p:blipFill>
            <a:blip r:embed="rId1"/>
            <a:stretch/>
          </p:blipFill>
          <p:spPr>
            <a:xfrm>
              <a:off x="3446280" y="797040"/>
              <a:ext cx="1765080" cy="92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13" descr="relate-over-time-color-small.bmp"/>
            <p:cNvPicPr/>
            <p:nvPr/>
          </p:nvPicPr>
          <p:blipFill>
            <a:blip r:embed="rId2"/>
            <a:stretch/>
          </p:blipFill>
          <p:spPr>
            <a:xfrm>
              <a:off x="4672080" y="1982880"/>
              <a:ext cx="15825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4" descr="perspectives-color-small.bmp"/>
            <p:cNvPicPr/>
            <p:nvPr/>
          </p:nvPicPr>
          <p:blipFill>
            <a:blip r:embed="rId3"/>
            <a:stretch/>
          </p:blipFill>
          <p:spPr>
            <a:xfrm>
              <a:off x="4425840" y="3794040"/>
              <a:ext cx="1828800" cy="74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5" descr="ethics-color-small.bmp"/>
            <p:cNvPicPr/>
            <p:nvPr/>
          </p:nvPicPr>
          <p:blipFill>
            <a:blip r:embed="rId4"/>
            <a:stretch/>
          </p:blipFill>
          <p:spPr>
            <a:xfrm>
              <a:off x="3447720" y="4543560"/>
              <a:ext cx="1595520" cy="147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6" descr="big-ideas-color-small.bmp"/>
            <p:cNvPicPr/>
            <p:nvPr/>
          </p:nvPicPr>
          <p:blipFill>
            <a:blip r:embed="rId5"/>
            <a:stretch/>
          </p:blipFill>
          <p:spPr>
            <a:xfrm>
              <a:off x="1949040" y="4753080"/>
              <a:ext cx="1496880" cy="12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7" descr="language-discipline-color-small.bmp"/>
            <p:cNvPicPr/>
            <p:nvPr/>
          </p:nvPicPr>
          <p:blipFill>
            <a:blip r:embed="rId6"/>
            <a:stretch/>
          </p:blipFill>
          <p:spPr>
            <a:xfrm>
              <a:off x="593280" y="3622680"/>
              <a:ext cx="1765080" cy="11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8" descr="unanswered-questions-color-small.bmp"/>
            <p:cNvPicPr/>
            <p:nvPr/>
          </p:nvPicPr>
          <p:blipFill>
            <a:blip r:embed="rId7"/>
            <a:stretch/>
          </p:blipFill>
          <p:spPr>
            <a:xfrm>
              <a:off x="593280" y="2430360"/>
              <a:ext cx="176508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9" descr="details-color-small.bmp"/>
            <p:cNvPicPr/>
            <p:nvPr/>
          </p:nvPicPr>
          <p:blipFill>
            <a:blip r:embed="rId8"/>
            <a:stretch/>
          </p:blipFill>
          <p:spPr>
            <a:xfrm>
              <a:off x="1884240" y="797040"/>
              <a:ext cx="156204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Oval 3"/>
            <p:cNvSpPr/>
            <p:nvPr/>
          </p:nvSpPr>
          <p:spPr>
            <a:xfrm>
              <a:off x="272880" y="358920"/>
              <a:ext cx="6350040" cy="6149880"/>
            </a:xfrm>
            <a:prstGeom prst="ellipse">
              <a:avLst/>
            </a:prstGeom>
            <a:noFill/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5"/>
            <p:cNvSpPr/>
            <p:nvPr/>
          </p:nvSpPr>
          <p:spPr>
            <a:xfrm>
              <a:off x="3446280" y="360360"/>
              <a:ext cx="1440" cy="6149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11"/>
            <p:cNvSpPr/>
            <p:nvPr/>
          </p:nvSpPr>
          <p:spPr>
            <a:xfrm flipH="1">
              <a:off x="1202760" y="1260360"/>
              <a:ext cx="4489560" cy="4348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traight Connector 7"/>
            <p:cNvSpPr/>
            <p:nvPr/>
          </p:nvSpPr>
          <p:spPr>
            <a:xfrm flipV="1">
              <a:off x="272160" y="3433680"/>
              <a:ext cx="635004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9"/>
            <p:cNvSpPr/>
            <p:nvPr/>
          </p:nvSpPr>
          <p:spPr>
            <a:xfrm>
              <a:off x="1202400" y="1260360"/>
              <a:ext cx="4489560" cy="43480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ight Arrow 15"/>
          <p:cNvSpPr/>
          <p:nvPr/>
        </p:nvSpPr>
        <p:spPr>
          <a:xfrm rot="16200000">
            <a:off x="6222960" y="2340000"/>
            <a:ext cx="2873520" cy="714240"/>
          </a:xfrm>
          <a:prstGeom prst="rightArrow">
            <a:avLst>
              <a:gd name="adj1" fmla="val 50000"/>
              <a:gd name="adj2" fmla="val 49954"/>
            </a:avLst>
          </a:pr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lin ang="16200000"/>
          </a:gradFill>
          <a:ln w="2844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6:40:45Z</dcterms:created>
  <dc:creator>CCPS</dc:creator>
  <dc:description/>
  <dc:language>en-US</dc:language>
  <cp:lastModifiedBy>CCPS</cp:lastModifiedBy>
  <cp:lastPrinted>2011-09-23T17:54:01Z</cp:lastPrinted>
  <dcterms:modified xsi:type="dcterms:W3CDTF">2011-09-23T17:55:56Z</dcterms:modified>
  <cp:revision>2</cp:revision>
  <dc:subject/>
  <dc:title>Slide 1</dc:title>
</cp:coreProperties>
</file>